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CB5-889F-4667-B383-DA111F9E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B37-420A-4806-8FDB-F7D05C50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4A5-5BA7-4E1D-B6C1-85AE4D40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C5D-54EB-4C20-8CFA-A35D47B4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E7B-B7CD-4FA1-BDE3-23113AED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145-B716-4F0C-A571-412548BF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491-18C9-453A-963C-9B82A407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0A6-E3FD-4151-81DF-DEF43839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B38-CDBF-4493-A369-01260434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2F6-C196-49F3-A179-C5BE29A9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853-EBBC-43F1-89C9-611DCE7E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A3D-418F-4990-A423-3E5186D3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612-4FEB-4000-8161-28B51DFD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71034"/>
          <a:stretch/>
        </p:blipFill>
        <p:spPr>
          <a:xfrm>
            <a:off x="404640" y="1403280"/>
            <a:ext cx="6453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-58" t="28970" r="0" b="0"/>
          <a:stretch/>
        </p:blipFill>
        <p:spPr>
          <a:xfrm>
            <a:off x="0" y="1116000"/>
            <a:ext cx="68580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38:18Z</dcterms:created>
  <dc:creator>Betsan Thomas</dc:creator>
  <dc:description/>
  <dc:language>en-US</dc:language>
  <cp:lastModifiedBy>Betsan Thomas</cp:lastModifiedBy>
  <dcterms:modified xsi:type="dcterms:W3CDTF">2007-05-08T19:44:04Z</dcterms:modified>
  <cp:revision>2</cp:revision>
  <dc:subject/>
  <dc:title>Slide 1</dc:title>
</cp:coreProperties>
</file>